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9720-227B-44FD-A901-033149728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C527-104B-4D39-9DA9-17C9361AC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C27D-D4EA-4C6C-878E-EDA16CFD4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8615-BADD-4E07-9491-EA34269A8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18F3-3C9E-4EB8-9830-DAA67B6E0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2DB9-6807-4138-868C-FDD4B2D77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CBB3-2E8D-47FA-A812-E3EBB4A2A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3601-120C-4EDA-AA9B-498E238F8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41B6-B77B-40F2-B4FC-95D448FA6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93BD-E5C5-48F6-8C7C-49BC2F621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4878-5474-4331-9EDC-B095D748F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2BB6-EFD8-4B85-9125-4399525DD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7FB5-2467-4AD4-8D37-9325EE9B5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A8F-2AE0-480F-A5AB-D39E474C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B1A-6554-4726-8653-9F19EDE1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2D6-8FB0-4E87-86D7-F07ED185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F2D2-3D32-4989-97B9-4D4AEB93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EF9-E8C7-4AD9-85D9-26550666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E12-2D67-4D7D-9810-8B6059B7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C78-65DB-40D6-B7FB-038ED401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7B3-2273-4534-B4B4-65E8C288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E74-96BB-44D8-86CC-6A03B86F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C511-07B8-4CA6-BA17-B50F065A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68D-ABB8-4E2D-8A82-9CB201BF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35E-C8F8-4F06-BAE8-441F9570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0D68-A238-42E4-A163-7A1CE2BC8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a lait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315200" cy="4449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7391520" y="6324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o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010280" cy="5004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754596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’an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809880" cy="53341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p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781680" cy="4461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754596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a cou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457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petits po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91320" cy="3803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746964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’oig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82040" cy="4012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62228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caro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concomb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403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762228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 mango et la papay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867280" cy="44211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ban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po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22:07:27Z</dcterms:created>
  <dc:creator>Cassandra Celaya</dc:creator>
  <dc:description/>
  <dc:language>en-US</dc:language>
  <cp:lastModifiedBy>Administrator</cp:lastModifiedBy>
  <dcterms:modified xsi:type="dcterms:W3CDTF">2010-06-28T18:58:00Z</dcterms:modified>
  <cp:revision>8</cp:revision>
  <dc:subject/>
  <dc:title>la lechuga</dc:title>
</cp:coreProperties>
</file>