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66D0-2EB5-4E9E-982A-8164C631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83A5-AFB5-4A88-A7E2-307DDCD5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E096-DAE9-4FD6-81EA-E3CBD8DC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94D6-3D56-4B4C-A8DF-BAB18D93D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73BD-B2E7-448B-A104-9CB19135E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EE2F-29C1-4F69-ACBF-565363DEB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9D75-8E1D-41A1-9906-9773DAD7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444F-AF2D-4205-A117-B6F3B0F6E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EBF7-F3A0-4713-8B82-E28B656CF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30CC-69E9-495D-9CC1-9E552EB7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DC95-DA49-4DEA-A356-6175E907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9925-8DDD-4749-B909-C7F77259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AABA-86C7-4C21-9D31-2776BA10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23D-7D7C-4A3C-80C2-4DBE8738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C6A-0B71-4BB3-92D4-D71AB716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46C-8FA1-4E53-9A1A-07E849D9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A5C-C3FA-4E76-ADAF-05BA68D0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6AC-8A9E-4924-A58A-954AAD41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0FB-F43D-427F-8732-88E09CEF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FD7-AFBC-46BE-945B-F5FA91F8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863-5690-42A0-9D4E-8095CAF2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347-D731-46E0-AB3E-BB7FC49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236-F2AA-4A3F-AC50-7241895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D95-376A-489D-B1A6-59F4188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AFF-88D2-41E8-AF38-758A30B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AB7B-563A-4C1B-8319-6A2542963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lai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444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915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00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’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p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81680" cy="4461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cou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457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etits 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3803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46964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01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62228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conc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403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62228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 mango et la papa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4421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2:07:27Z</dcterms:created>
  <dc:creator>Cassandra Celaya</dc:creator>
  <dc:description/>
  <dc:language>en-US</dc:language>
  <cp:lastModifiedBy>Administrator</cp:lastModifiedBy>
  <dcterms:modified xsi:type="dcterms:W3CDTF">2010-06-28T18:58:00Z</dcterms:modified>
  <cp:revision>8</cp:revision>
  <dc:subject/>
  <dc:title>la lechuga</dc:title>
</cp:coreProperties>
</file>