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56B4-88E3-4DBC-890C-33DF5E259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092C-FF0B-4555-826A-B2CA83B92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1B26-CE54-4F31-8C67-30FE16F7D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9FD9-6E4F-4452-B823-42B07ABBE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1502-5D54-41CB-9D54-F3176C9EF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13A3-4520-4841-81CA-8596AA6BC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CB40-C5C2-4F8C-BFA9-D3EC6251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65CA-3A5B-4962-A354-47E57C336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6AB7-EADC-42AE-9776-159475A17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D644-F13C-4588-B5F2-3BE750443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19B3-3FB3-4B20-9CCC-A56C7AE3C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190A-1DBA-49AD-BECA-5AE3E12D3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991A-9C16-4C87-9319-10FA9578A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644-A60E-4164-B649-90EE7C2D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DC0-76FA-423A-9520-0BF957B6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EB8-943D-4639-A418-568C785A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407-9699-4FA0-B656-A901B723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D87-8889-473C-962A-9AACA79E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8A9-C39D-47A5-AD4E-0DF8403C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ACB-51C7-4C25-A486-D5ECDB39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363-0336-4E2D-B650-AEA41F0C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674-A046-43E9-8295-1FA0B73D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84F-1672-45D2-8B5F-5557B75C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38C-7413-4260-A8CB-2B4519B5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FA9-4C16-459A-BD70-864BFA6D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53F7-9F63-4AD6-8C60-D0473C866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a lait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15200" cy="444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7391520" y="6324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o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10280" cy="5004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754596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’an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09880" cy="53341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p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781680" cy="4461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754596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a cou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457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petits 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91320" cy="3803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746964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’o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01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62228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caro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concomb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403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762228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 mango et la papay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867280" cy="4421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ban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p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22:07:27Z</dcterms:created>
  <dc:creator>Cassandra Celaya</dc:creator>
  <dc:description/>
  <dc:language>en-US</dc:language>
  <cp:lastModifiedBy>Administrator</cp:lastModifiedBy>
  <dcterms:modified xsi:type="dcterms:W3CDTF">2010-06-28T18:58:00Z</dcterms:modified>
  <cp:revision>8</cp:revision>
  <dc:subject/>
  <dc:title>la lechuga</dc:title>
</cp:coreProperties>
</file>