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AAAF-0091-4AF1-8241-7E524E23E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00A4-9A3C-4C39-8773-1895D3EF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59B-3F54-463F-90C6-D4C3BA43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251D-1D07-40D1-AFCE-A0C62B9D5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16F-63F3-4B6E-B288-CD0DC0526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CC28-4980-4959-8D4B-EB2D274E9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2497-727C-4D34-911F-A941EE54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E775-3462-48DD-B369-0EC8C43DA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7B24-1B4F-478C-A3B4-81416613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1AAF-DC63-459A-B6F7-90A289AB6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B9EF-7A3F-4BE6-A1C2-D1065D94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0ED0-1D75-4EED-A37C-0409053E7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79B-CA55-4684-A6B0-F4D3745E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019-3A5F-4927-96EA-89360B0F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ECF-73CA-48CD-AD05-631209EE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8BC-A718-4E0A-BD76-16058D3E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F68-873A-4D9A-82AE-5260769D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54D-4B11-4184-B689-23CB8C26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03B-3B93-4765-86B4-FA24A6DC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6FA-7C51-4E27-AFA7-50AA93E7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C42-69BA-4F33-845E-7B678D23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0DA-E7C7-4C7F-A985-DE594722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1D6-308E-42D5-A16B-A48DA1A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9AD-CA06-4C8D-AADF-8F75204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A90-66CD-4046-976F-99CC108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8D7D-775C-40EF-A526-06F685249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lai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444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915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’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p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81680" cy="4461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cou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457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etits 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80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46964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01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62228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conc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03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62228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mango et la papa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21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2:07:27Z</dcterms:created>
  <dc:creator>Cassandra Celaya</dc:creator>
  <dc:description/>
  <dc:language>en-US</dc:language>
  <cp:lastModifiedBy>Administrator</cp:lastModifiedBy>
  <dcterms:modified xsi:type="dcterms:W3CDTF">2010-06-28T18:58:00Z</dcterms:modified>
  <cp:revision>8</cp:revision>
  <dc:subject/>
  <dc:title>la lechuga</dc:title>
</cp:coreProperties>
</file>