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67EB-B7FD-494B-8C7E-5DB870D73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4B29-E427-4CA9-B82C-ABF445ACC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DB0-EB86-43D2-9326-90F88106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1DC-CEB5-482A-8E68-EC1A9E72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538-09E3-470A-9C57-2633887E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33E-9313-498C-B8B9-A816C39D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122E-0C05-4799-8A24-1ADAF12B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9FD5-9421-42C3-9B16-2B3E200A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C77-DA7D-4244-8121-98CEDE16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FDB2-98E5-4FB2-852E-D9176A6B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BA88-A4F8-44A8-8428-B4923B72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247-ACDC-45B0-9D5E-D3AD87B0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730-69F0-4EC6-AC87-3BB6AE2D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D1A-2D43-4BBD-82C8-811A6E2D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7F0A-B957-44FF-8819-D94A95C55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600200" y="48769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600200" y="4952880"/>
            <a:ext cx="1143000" cy="381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600200" y="5029200"/>
            <a:ext cx="1066680" cy="246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f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écul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819520" y="4952880"/>
            <a:ext cx="1143000" cy="381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038480" y="4952880"/>
            <a:ext cx="106704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5181480" y="5029200"/>
            <a:ext cx="106704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6324480" y="4952880"/>
            <a:ext cx="114300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819520" y="5029200"/>
            <a:ext cx="1066680" cy="246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l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égu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038480" y="5029200"/>
            <a:ext cx="1067040" cy="246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fruit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181480" y="4876920"/>
            <a:ext cx="1143000" cy="477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produit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lait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6324480" y="4952880"/>
            <a:ext cx="1067040" cy="246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viand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1523880" y="5334120"/>
            <a:ext cx="6019920" cy="99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3733920" y="5562720"/>
            <a:ext cx="1066680" cy="39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mati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ère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 gra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487692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952880" y="304920"/>
            <a:ext cx="2743200" cy="825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pyramide ali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8:03:02Z</dcterms:created>
  <dc:creator>Dawn Samples</dc:creator>
  <dc:description/>
  <dc:language>en-US</dc:language>
  <cp:lastModifiedBy>Administrator</cp:lastModifiedBy>
  <dcterms:modified xsi:type="dcterms:W3CDTF">2010-06-28T18:52:19Z</dcterms:modified>
  <cp:revision>1</cp:revision>
  <dc:subject/>
  <dc:title>Slide 1</dc:title>
</cp:coreProperties>
</file>