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9A78-4907-46A1-A22B-42823814E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87D5-1BB4-4BB3-B68A-8FA4921FA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0E38-B236-4152-BA4D-A494F12D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BC02-1975-4A32-B3F9-03A057CF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459C-9B81-4F13-AA0C-3A52E116C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DCCC-C21D-450E-A4F2-4EF6E7ECC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64E2-A3E7-4CBD-8662-EE05D52C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F6D8-DCCC-46C7-977A-B1DD0DD9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CC60-69B1-4776-B7FC-A8AB3E03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13E8-BED7-4DC2-8D2C-BC18B224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4EBF-ABFD-4B45-924F-0E2A6571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032B-A1E4-43D5-A4F2-E8F5B94C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0104-60D8-46BA-B5DD-650657C1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0A43-DD17-4576-9411-0F5BB9FF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54A4-A776-4F7C-992B-35286F9D1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1600200" y="48769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1600200" y="4952880"/>
            <a:ext cx="1143000" cy="381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600200" y="5029200"/>
            <a:ext cx="1066680" cy="246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es f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écul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2819520" y="4952880"/>
            <a:ext cx="1143000" cy="381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038480" y="4952880"/>
            <a:ext cx="1067040" cy="3049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5181480" y="5029200"/>
            <a:ext cx="1067040" cy="304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6324480" y="4952880"/>
            <a:ext cx="1143000" cy="381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2819520" y="5029200"/>
            <a:ext cx="1066680" cy="246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es l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égu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4038480" y="5029200"/>
            <a:ext cx="1067040" cy="2462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es fruit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5181480" y="4876920"/>
            <a:ext cx="1143000" cy="477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es produit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laiti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6324480" y="4952880"/>
            <a:ext cx="1067040" cy="246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es viand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1523880" y="5334120"/>
            <a:ext cx="6019920" cy="990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3733920" y="5562720"/>
            <a:ext cx="1066680" cy="39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es mati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ère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s gra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487692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4952880" y="304920"/>
            <a:ext cx="2743200" cy="825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pyramide alimen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8:03:02Z</dcterms:created>
  <dc:creator>Dawn Samples</dc:creator>
  <dc:description/>
  <dc:language>en-US</dc:language>
  <cp:lastModifiedBy>Administrator</cp:lastModifiedBy>
  <dcterms:modified xsi:type="dcterms:W3CDTF">2010-06-28T18:52:19Z</dcterms:modified>
  <cp:revision>1</cp:revision>
  <dc:subject/>
  <dc:title>Slide 1</dc:title>
</cp:coreProperties>
</file>