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BA6E-9220-4E22-9AF0-28262D132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C025-D305-41C4-8909-9174805E6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996-FA6F-48B8-BDF7-E70C3B91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247-B031-405F-B710-273AD879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8CD-6303-47F3-B8CD-AF830D0A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81F-4EB5-4B6F-A9AE-302E3FAB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601-44A7-447D-8EF5-371F367D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A82-970C-46E8-A326-2A36A770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A67-07B8-45F9-833D-C3DACE48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013-2860-4FFB-AE5F-15522871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ABA7-8A6E-4520-9592-470AF359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E25-4D72-4333-A3B9-7814136F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C3B-99B7-4845-8DF1-6A75ADCD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4CF-73A5-4D18-8E2E-452F2271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4084-870B-4EDD-A194-DC68F7876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600200" y="48769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600200" y="4952880"/>
            <a:ext cx="1143000" cy="381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00200" y="5029200"/>
            <a:ext cx="1066680" cy="246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f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écul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819520" y="4952880"/>
            <a:ext cx="1143000" cy="381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038480" y="4952880"/>
            <a:ext cx="106704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181480" y="5029200"/>
            <a:ext cx="106704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6324480" y="4952880"/>
            <a:ext cx="11430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819520" y="5029200"/>
            <a:ext cx="1066680" cy="246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l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égu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038480" y="5029200"/>
            <a:ext cx="1067040" cy="246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fruit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81480" y="4876920"/>
            <a:ext cx="1143000" cy="477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produit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lait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324480" y="4952880"/>
            <a:ext cx="1067040" cy="246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viand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1523880" y="5334120"/>
            <a:ext cx="6019920" cy="99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733920" y="5562720"/>
            <a:ext cx="1066680" cy="39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mati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ère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 gra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87692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952880" y="304920"/>
            <a:ext cx="274320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pyramide ali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8:03:02Z</dcterms:created>
  <dc:creator>Dawn Samples</dc:creator>
  <dc:description/>
  <dc:language>en-US</dc:language>
  <cp:lastModifiedBy>Administrator</cp:lastModifiedBy>
  <dcterms:modified xsi:type="dcterms:W3CDTF">2010-06-28T18:52:19Z</dcterms:modified>
  <cp:revision>1</cp:revision>
  <dc:subject/>
  <dc:title>Slide 1</dc:title>
</cp:coreProperties>
</file>