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668FD-1D11-40C4-8650-A7F539802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ED208-9420-4BD3-A6A7-E62B1F98D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F75B-F55A-4993-AA0E-7FCEBC221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44AE-3FDF-4790-BA20-1ED232E18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7D5A-8544-400B-A27C-7E630FC8B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5E3A-8A83-4DCB-A3B6-2B6A424E2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5B5B-AB67-435A-8737-736DAA423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C88C-2355-4F99-BAC1-DF7EE1D26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4232-6772-4665-A521-319F6D54A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2FAD-0879-4A40-8264-8EEBCF15A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C43D-B029-43D9-9EF7-127766CAD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01B6-7D3C-4047-94F5-C6E0430F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A162-DBCC-4469-9DD6-29D84819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7E4F-8187-4B7C-8C47-2E3A926C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8518C-B063-49DA-A1EF-592AE341BF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0" y="28440"/>
            <a:ext cx="9144000" cy="68295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1600200" y="48769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1600200" y="4952880"/>
            <a:ext cx="1143000" cy="3812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1600200" y="5029200"/>
            <a:ext cx="1066680" cy="2462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es f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Times New Roman"/>
              </a:rPr>
              <a:t>écul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2819520" y="4952880"/>
            <a:ext cx="1143000" cy="381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4038480" y="4952880"/>
            <a:ext cx="1067040" cy="3049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"/>
          <p:cNvSpPr/>
          <p:nvPr/>
        </p:nvSpPr>
        <p:spPr>
          <a:xfrm>
            <a:off x="5181480" y="5029200"/>
            <a:ext cx="1067040" cy="3049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1"/>
          <p:cNvSpPr/>
          <p:nvPr/>
        </p:nvSpPr>
        <p:spPr>
          <a:xfrm>
            <a:off x="6324480" y="4952880"/>
            <a:ext cx="1143000" cy="381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2819520" y="5029200"/>
            <a:ext cx="1066680" cy="246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es l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Times New Roman"/>
              </a:rPr>
              <a:t>égu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4038480" y="5029200"/>
            <a:ext cx="1067040" cy="2462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es fruit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5181480" y="4876920"/>
            <a:ext cx="1143000" cy="477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es produit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Times New Roman"/>
              </a:rPr>
              <a:t>laiti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6324480" y="4952880"/>
            <a:ext cx="1067040" cy="246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es viand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Times New Roman"/>
              </a:rPr>
              <a:t>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6"/>
          <p:cNvSpPr/>
          <p:nvPr/>
        </p:nvSpPr>
        <p:spPr>
          <a:xfrm>
            <a:off x="1523880" y="5334120"/>
            <a:ext cx="6019920" cy="9903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7"/>
          <p:cNvSpPr/>
          <p:nvPr/>
        </p:nvSpPr>
        <p:spPr>
          <a:xfrm>
            <a:off x="3733920" y="5562720"/>
            <a:ext cx="1066680" cy="398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es mati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ère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Times New Roman"/>
              </a:rPr>
              <a:t>s gras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8"/>
          <p:cNvSpPr/>
          <p:nvPr/>
        </p:nvSpPr>
        <p:spPr>
          <a:xfrm>
            <a:off x="4876920" y="304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9"/>
          <p:cNvSpPr/>
          <p:nvPr/>
        </p:nvSpPr>
        <p:spPr>
          <a:xfrm>
            <a:off x="4952880" y="304920"/>
            <a:ext cx="2743200" cy="8254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pyramide aliment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8:03:02Z</dcterms:created>
  <dc:creator>Dawn Samples</dc:creator>
  <dc:description/>
  <dc:language>en-US</dc:language>
  <cp:lastModifiedBy>Administrator</cp:lastModifiedBy>
  <dcterms:modified xsi:type="dcterms:W3CDTF">2010-06-28T18:52:19Z</dcterms:modified>
  <cp:revision>1</cp:revision>
  <dc:subject/>
  <dc:title>Slide 1</dc:title>
</cp:coreProperties>
</file>