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CCC2-21C9-4931-B0A9-1275D97BD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0AFF-CED1-447A-9CA9-91C73ABF6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BC5A-1E60-4DE8-8AE4-59BF000C0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6F89-234D-40EC-A1C7-01B3189D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F968-714B-4E5E-AD67-7704032EF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EB09-8C90-4F8D-AC26-7306F5B2B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187F-2A44-4C9F-9213-CE47067D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16CB-6FCE-42C4-AAB0-EAD6ACD7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CEF3-4955-468C-86D2-E351276B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2DFF-18FE-4B94-91A8-3A6ACA6D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12B6-A880-4ADF-9B20-E8089D0D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236B-7793-48F2-8DC6-18354906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2E3F-DC68-4C12-B084-6287A67F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403D-D039-41E0-A7FB-6C7FD4BD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3464-C2B3-4743-82ED-D91C3A0DB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1600200" y="48769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1600200" y="4952880"/>
            <a:ext cx="1143000" cy="381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600200" y="5029200"/>
            <a:ext cx="1066680" cy="246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es f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écul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2819520" y="4952880"/>
            <a:ext cx="1143000" cy="381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038480" y="4952880"/>
            <a:ext cx="1067040" cy="3049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5181480" y="5029200"/>
            <a:ext cx="1067040" cy="304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6324480" y="4952880"/>
            <a:ext cx="1143000" cy="381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2819520" y="5029200"/>
            <a:ext cx="1066680" cy="246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es l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égu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4038480" y="5029200"/>
            <a:ext cx="1067040" cy="2462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es fruit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5181480" y="4876920"/>
            <a:ext cx="1143000" cy="477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es produit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laiti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6324480" y="4952880"/>
            <a:ext cx="1067040" cy="246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es viand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1523880" y="5334120"/>
            <a:ext cx="6019920" cy="990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3733920" y="5562720"/>
            <a:ext cx="1066680" cy="39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es mati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ère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s gra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487692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4952880" y="304920"/>
            <a:ext cx="2743200" cy="825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pyramide alimen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8:03:02Z</dcterms:created>
  <dc:creator>Dawn Samples</dc:creator>
  <dc:description/>
  <dc:language>en-US</dc:language>
  <cp:lastModifiedBy>Administrator</cp:lastModifiedBy>
  <dcterms:modified xsi:type="dcterms:W3CDTF">2010-06-28T18:52:19Z</dcterms:modified>
  <cp:revision>1</cp:revision>
  <dc:subject/>
  <dc:title>Slide 1</dc:title>
</cp:coreProperties>
</file>